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BB8-7DB1-4E21-9953-D950762F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ECB-01DB-4386-A998-AF6C9A26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874-8698-45FE-893F-C4CFF2A4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E27-9930-4A31-8441-372CE93B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7EFC-5D88-4E4D-9231-4CA79D98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265-8F9C-4D6C-8056-13D076B8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1FF-A9E2-4B89-B2F9-644725DE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E28-E5CB-4406-88C4-7B1B8C75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A39-3394-408F-98C2-84C7C699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65C-B313-48AE-B9B2-BF34510D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8DC-6D97-4A75-A696-0E510616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E87-C1F3-407B-9892-F8E80E91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35CB-EC40-47DA-8CDD-4F1F5304C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5 Koľko lásky má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Kri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oľko lásky máš pre Krista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a teba niesol krí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u radosť on ti chy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 mu srdce otvor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, Pána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mi ochotne 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duši tvojej pra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z lásky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op sa vďačne mocnej ru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va ti ju Ježiš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a teba trpel mu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a prúdi z jeho 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, Pána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mi ochotne 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duši tvojej pra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z lásky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časný je len krát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rny ako klamný sen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ťastia prelud je v ňom vratk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však ešte spásy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, Pána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mi ochotne 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duši tvojej pra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z lásky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remeškaj príležit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ti ponúka tvoj Pán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rna bude každá ľút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zavrhni spásy pl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, Pána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mi ochotne 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duši tvojej pra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z lásky darov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17:23:08Z</dcterms:modified>
  <cp:revision>20</cp:revision>
  <dc:subject/>
  <dc:title>Je veľký náš Pán, on slávy je Kráľ Nech do všetkých strán  spev vrúcnych znie chvál.</dc:title>
</cp:coreProperties>
</file>